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F9A-166D-4B72-A3C3-F7DF15C0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FBF-7E0C-40F0-B37B-01B303AF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838-6A1E-45D6-AF8E-391D09A1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B4E-79DC-42DD-A0C8-78FC8269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2F4-CE27-4F81-A1BB-699E2790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CE0-3451-442D-963D-066A1098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F95-538E-454A-9B24-D013C4C7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EFF-AB6A-497F-8B54-D8E9DD17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6D2-3E44-4632-B39E-508A5A79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B74-4B5B-4B0D-AEB0-F5C8BBEE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4F8-9280-45ED-B294-617DC322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0AA-90F9-4EF8-B269-A346078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C9B5-B1C0-4E09-96D0-7BE172B07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pping Mule Deer Habitat of 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tat classification and limi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3276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138560"/>
            <a:ext cx="843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d for Western Association of Fisheries and Wildlife Agencies (WAFWA) Mule Deer Working Group 2003-2004 by the RSGIS Laboratory, College of Natural Resources, Utah State University, Logan, Utah 84322-52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13840" y="53341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Dec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257800"/>
            <a:ext cx="129564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182880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02:11:19Z</dcterms:created>
  <dc:creator>John Lowry</dc:creator>
  <dc:description/>
  <dc:language>en-US</dc:language>
  <cp:lastModifiedBy>John Lowry</cp:lastModifiedBy>
  <dcterms:modified xsi:type="dcterms:W3CDTF">2005-01-28T15:18:01Z</dcterms:modified>
  <cp:revision>5</cp:revision>
  <dc:subject/>
  <dc:title>Mapping the Deer of the Western U.S.</dc:title>
</cp:coreProperties>
</file>