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1920"/>
            <a:ext cx="817884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36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1920"/>
            <a:ext cx="399096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36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1920"/>
            <a:ext cx="2633400" cy="41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684000" indent="-4438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1084320" indent="-4438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484280" indent="-4442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884240" indent="-4438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2284200" indent="-4438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2284200" indent="-4438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2284200" indent="-44388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93920" indent="-3207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3000" indent="-3207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72080" indent="-3207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60800" indent="-3207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49880" indent="-3207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49880" indent="-3207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49880" indent="-32076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4000"/>
          </a:bodyPr>
          <a:p>
            <a:pPr marL="56232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89136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220400" indent="-36540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54908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87812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87812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878120" indent="-365040">
              <a:spcBef>
                <a:spcPts val="29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87680" indent="-536760">
              <a:spcBef>
                <a:spcPts val="18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205640" indent="-536760">
              <a:spcBef>
                <a:spcPts val="18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2" marL="1623600" indent="-537120">
              <a:spcBef>
                <a:spcPts val="18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3" marL="2041560" indent="-537120">
              <a:spcBef>
                <a:spcPts val="18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4" marL="2458800" indent="-536760">
              <a:spcBef>
                <a:spcPts val="18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5" marL="2458800" indent="-536760">
              <a:spcBef>
                <a:spcPts val="18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6" marL="2458800" indent="-536760">
              <a:spcBef>
                <a:spcPts val="18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54200" indent="-514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1" marL="1154160" indent="-514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2" marL="1554480" indent="-514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3" marL="1954440" indent="-51444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4" marL="2354400" indent="-514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5" marL="2354400" indent="-514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 lvl="6" marL="2354400" indent="-514080">
              <a:spcBef>
                <a:spcPts val="38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9376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83508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9376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-1689120" y="0"/>
            <a:ext cx="1353816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55320" y="711360"/>
            <a:ext cx="9435960" cy="621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For while we were still weak,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at the right time Christ died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for the ungodly.</a:t>
            </a:r>
            <a:br>
              <a:rPr sz="4800"/>
            </a:br>
            <a:r>
              <a:rPr b="0" lang="en-US" sz="4800" spc="-1" strike="noStrike">
                <a:solidFill>
                  <a:srgbClr val="61c4cd"/>
                </a:solidFill>
                <a:latin typeface="Optima"/>
                <a:ea typeface="Optima"/>
              </a:rPr>
              <a:t>- Romans 5:6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5320" y="711360"/>
            <a:ext cx="9435960" cy="621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He committed no sin, and no deceit was found in his mouth.</a:t>
            </a:r>
            <a:br>
              <a:rPr sz="4800"/>
            </a:br>
            <a:r>
              <a:rPr b="0" lang="en-US" sz="4800" spc="-1" strike="noStrike">
                <a:solidFill>
                  <a:srgbClr val="61c4cd"/>
                </a:solidFill>
                <a:latin typeface="Optima"/>
                <a:ea typeface="Optima"/>
              </a:rPr>
              <a:t>- I Peter 2:22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55320" y="711360"/>
            <a:ext cx="9435960" cy="621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For by grace you have been saved through faith.  And this is not your own doing; it is the gift of God.</a:t>
            </a:r>
            <a:br>
              <a:rPr sz="4800"/>
            </a:br>
            <a:r>
              <a:rPr b="0" lang="en-US" sz="4800" spc="-1" strike="noStrike">
                <a:solidFill>
                  <a:srgbClr val="61c4cd"/>
                </a:solidFill>
                <a:latin typeface="Optima"/>
                <a:ea typeface="Optima"/>
              </a:rPr>
              <a:t>- Ephesians 2:8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-1689120" y="0"/>
            <a:ext cx="1353816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5320" y="711360"/>
            <a:ext cx="9435960" cy="621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Yom Kippur</a:t>
            </a:r>
            <a:br>
              <a:rPr sz="4800"/>
            </a:br>
            <a:r>
              <a:rPr b="0" lang="en-US" sz="4800" spc="-1" strike="noStrike">
                <a:solidFill>
                  <a:srgbClr val="61c4cd"/>
                </a:solidFill>
                <a:latin typeface="Optima"/>
                <a:ea typeface="Optima"/>
              </a:rPr>
              <a:t>The Day of Atonement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-1689120" y="0"/>
            <a:ext cx="1353816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5320" y="711360"/>
            <a:ext cx="9435960" cy="621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Indeed, under the law almost everything is purified with blood, and without the shedding of blood there is no forgiveness of sins.</a:t>
            </a:r>
            <a:br>
              <a:rPr sz="4800"/>
            </a:br>
            <a:r>
              <a:rPr b="0" lang="en-US" sz="4800" spc="-1" strike="noStrike">
                <a:solidFill>
                  <a:srgbClr val="61c4cd"/>
                </a:solidFill>
                <a:latin typeface="Optima"/>
                <a:ea typeface="Optima"/>
              </a:rPr>
              <a:t>- Hebrews 9:22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-1689120" y="0"/>
            <a:ext cx="1353816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5320" y="711360"/>
            <a:ext cx="9435960" cy="621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Come now and let us reason together,” says the Lord.  “Though your sins are like scarlet, they shall be white as snow; Though they are red like crimson, they shall b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as wool.”</a:t>
            </a:r>
            <a:br>
              <a:rPr sz="4800"/>
            </a:br>
            <a:r>
              <a:rPr b="0" lang="en-US" sz="5100" spc="-1" strike="noStrike">
                <a:solidFill>
                  <a:srgbClr val="61c4cd"/>
                </a:solidFill>
                <a:latin typeface="Optima"/>
                <a:ea typeface="Optima"/>
              </a:rPr>
              <a:t>- Isaiah 1:18</a:t>
            </a:r>
            <a:endParaRPr b="0" lang="en-US" sz="51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-1689120" y="0"/>
            <a:ext cx="13538160" cy="762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5320" y="711360"/>
            <a:ext cx="9435960" cy="621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For this reason Christ is the mediator of a new covenant, that those who are called may receive the promised eternal inheritance - now that he has died as a ransom to set them free from the sins committed under the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Optima"/>
                <a:ea typeface="Optima"/>
              </a:rPr>
              <a:t>first covenant.</a:t>
            </a:r>
            <a:br>
              <a:rPr sz="4800"/>
            </a:br>
            <a:r>
              <a:rPr b="0" lang="en-US" sz="4800" spc="-1" strike="noStrike">
                <a:solidFill>
                  <a:srgbClr val="61c4cd"/>
                </a:solidFill>
                <a:latin typeface="Optima"/>
                <a:ea typeface="Optima"/>
              </a:rPr>
              <a:t>- Hebrews 9:15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90360" y="3924360"/>
            <a:ext cx="8178840" cy="87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-1689120" y="0"/>
            <a:ext cx="13538160" cy="762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